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38D-6510-49C4-8484-AAB5CA5B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246-A890-46E0-BC15-4EF16A5E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440-9DEA-4F0B-9A48-820B2359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3E0-46D7-4EFE-A576-8033DEBA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9087-876F-478D-BEED-471C2C00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8EDF-E9C1-4690-9F1C-0F1D145B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EC23-7A24-4E05-B1A6-A9D471FF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FE61-8717-4047-B128-0A1DA0C5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C47D-312E-4698-A3BD-45ADD9BB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C9A9-FE72-4200-A0C9-B31B7E2C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62CA-EBF5-4AA6-93F3-BBBDD5BF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BE80-C2B2-47A6-A2E9-64D5471E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ED5C-50DE-47EC-A44E-1EB7D718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F559-779B-427E-8D5C-C3FF9EB6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2DD7-2769-4AF5-A95F-DAC599BF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053F-2CF3-408B-B376-A4EA907D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239B-0688-4615-8238-37C8879A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EAA-11EF-4BED-92E2-E5855467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817-1F35-4809-9A7B-CEC995C7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F59-01E1-40D5-A784-EDB80B0B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FB6C-41F8-423F-897A-F2D29432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06A-1AB9-4D82-B75A-37A2E072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BE6-D0FD-4F8C-97A5-BA27D2C0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9EB-A9A2-4DF6-8190-5468584E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04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B9138-C6F5-4ABD-BD42-0FA2C9553A11}" type="datetime">
              <a:rPr b="0" lang="en-US" sz="1200" spc="-1" strike="noStrike">
                <a:solidFill>
                  <a:srgbClr val="2f2f2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F4B97-C9DF-462B-ABB4-DE6D69A39577}" type="slidenum">
              <a:rPr b="0" lang="en-US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04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E8AD3-1CC8-4DA7-A1A8-0BECD0DD634C}" type="datetime">
              <a:rPr b="0" lang="en-US" sz="1200" spc="-1" strike="noStrike">
                <a:solidFill>
                  <a:srgbClr val="d9d4c7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11A4F-087E-4C3B-A800-2B4F71D529AB}" type="slidenum">
              <a:rPr b="0" lang="en-US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7858080" cy="2000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hapter 14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6204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850320" indent="-47808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ost of an atom is empty space occupied by nearly massless electron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50320" indent="-47808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lectrically neutral particles, neutrons, are also located in the nucleu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50320" indent="-47808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number of electrons equals the number of protons in an ato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Rutherford_atomic_model"/>
          <p:cNvPicPr/>
          <p:nvPr/>
        </p:nvPicPr>
        <p:blipFill>
          <a:blip r:embed="rId1"/>
          <a:stretch/>
        </p:blipFill>
        <p:spPr>
          <a:xfrm>
            <a:off x="2749680" y="1828800"/>
            <a:ext cx="3644640" cy="4111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501480" y="97488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501480" y="974880"/>
            <a:ext cx="559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im26"/>
          <p:cNvPicPr/>
          <p:nvPr/>
        </p:nvPicPr>
        <p:blipFill>
          <a:blip r:embed="rId1"/>
          <a:stretch/>
        </p:blipFill>
        <p:spPr>
          <a:xfrm>
            <a:off x="270000" y="1571760"/>
            <a:ext cx="84931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501480" y="974880"/>
            <a:ext cx="6661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cont</a:t>
            </a:r>
            <a:r>
              <a:rPr b="0" lang="ja-JP" sz="2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27000" y="1558800"/>
            <a:ext cx="5867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erford was shocked when some alpha particles were veering off at large ang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vely charged alpha particles were moving with such high speed that it would take a large positive charge to cause them to bounce b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erford and his team had to come up with an explanation for these unexpected resul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im30"/>
          <p:cNvPicPr/>
          <p:nvPr/>
        </p:nvPicPr>
        <p:blipFill>
          <a:blip r:embed="rId1"/>
          <a:stretch/>
        </p:blipFill>
        <p:spPr>
          <a:xfrm>
            <a:off x="5894280" y="1400040"/>
            <a:ext cx="324972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501480" y="974880"/>
            <a:ext cx="74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cont</a:t>
            </a:r>
            <a:r>
              <a:rPr b="0" lang="ja-JP" sz="2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01480" y="1828800"/>
            <a:ext cx="4305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ypothesized that almost all the mass of the atom and all of 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charge are crammed into an incredibly small region of space at the center of the atom called the nucle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m28"/>
          <p:cNvPicPr/>
          <p:nvPr/>
        </p:nvPicPr>
        <p:blipFill>
          <a:blip r:embed="rId1"/>
          <a:stretch/>
        </p:blipFill>
        <p:spPr>
          <a:xfrm>
            <a:off x="5067360" y="1558800"/>
            <a:ext cx="3695760" cy="3548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501480" y="586116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20 scientists identified the positive charges in the nucleus as prot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501480" y="974880"/>
            <a:ext cx="6661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The 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501480" y="1819440"/>
            <a:ext cx="788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utr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to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electrons have almost no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Rutherfor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model, the only other particle in the atom was the prot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meant that the mass of an atom should have been approximately equal to the mass of its prot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t was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501480" y="974880"/>
            <a:ext cx="6661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The 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501480" y="1819440"/>
            <a:ext cx="788040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s of most atoms is at least twice as great as the mass of its prot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proposed that another particle must be in the nucleus to account for the extra m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icle, which was later call the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neutr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ould have the same mass as a proton and be electrically neu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ook another 20 years before scientists were able to show by more modern experiments that atoms contain neutr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501480" y="974880"/>
            <a:ext cx="6661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Ne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im35"/>
          <p:cNvPicPr/>
          <p:nvPr/>
        </p:nvPicPr>
        <p:blipFill>
          <a:blip r:embed="rId1"/>
          <a:stretch/>
        </p:blipFill>
        <p:spPr>
          <a:xfrm>
            <a:off x="4800600" y="1828800"/>
            <a:ext cx="3848040" cy="3838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44280" y="1828800"/>
            <a:ext cx="4756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of the atom was revised again to include the newly discovered neutron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Further Developments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n into the twentieth century, physicists were working on a theory to explain how electrons are arranged in an ato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hysicist named Niels Bohr even calculated exactly what energy levels those orbits would represent for the hydrogen ato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ever, scientists soon learned that electrons are in constant, unpredictable motion and ca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 be described easily by an orbi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934640"/>
            <a:ext cx="3505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modern day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lectron cloud model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explains the unpredictable wave behavior of electrons, which could be anywhere in the area surrounding the nucleu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0240" indent="-300240"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Picture 5" descr="atomic_cloud_model"/>
          <p:cNvPicPr/>
          <p:nvPr/>
        </p:nvPicPr>
        <p:blipFill>
          <a:blip r:embed="rId1"/>
          <a:stretch/>
        </p:blipFill>
        <p:spPr>
          <a:xfrm>
            <a:off x="3962520" y="2133720"/>
            <a:ext cx="51814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Greek philosophers devised a theory of atoms, or tiny particle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John Dalton combined the idea of elements with the Greek theory of the ato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27880" indent="-488160">
              <a:spcBef>
                <a:spcPts val="726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Matter is made up of atom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127880" indent="-488160">
              <a:spcBef>
                <a:spcPts val="726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toms cannot be divided into smaller piece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127880" indent="-488160">
              <a:spcBef>
                <a:spcPts val="726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ll atoms of an element are exactly alike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rooke</a:t>
            </a:r>
            <a:r>
              <a:rPr b="0" lang="ja-JP" sz="44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s Experiment</a:t>
            </a: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 - </a:t>
            </a: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Cathode Ray tube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8520" y="1847520"/>
            <a:ext cx="34876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70 - When the battery was connected, the glass tube suddenly lit up with a greenish-colored glow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9" name="Picture 17" descr="im10"/>
          <p:cNvPicPr/>
          <p:nvPr/>
        </p:nvPicPr>
        <p:blipFill>
          <a:blip r:embed="rId1"/>
          <a:stretch/>
        </p:blipFill>
        <p:spPr>
          <a:xfrm>
            <a:off x="4572000" y="2590920"/>
            <a:ext cx="45086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rooke</a:t>
            </a:r>
            <a:r>
              <a:rPr b="0" lang="ja-JP" sz="44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s Experiment</a:t>
            </a: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 - </a:t>
            </a: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Cathode Ray tube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847520"/>
            <a:ext cx="4707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70 - When the battery was connected, the glass tube suddenly lit up with a greenish-colored glow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oss-shaped object was getting in the way of the beam and blocking i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son used this tube and added a magnet. The beam was bent in the direction of the magnet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Picture 17" descr="im10"/>
          <p:cNvPicPr/>
          <p:nvPr/>
        </p:nvPicPr>
        <p:blipFill>
          <a:blip r:embed="rId1"/>
          <a:stretch/>
        </p:blipFill>
        <p:spPr>
          <a:xfrm>
            <a:off x="4572000" y="2590920"/>
            <a:ext cx="45086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Thomson</a:t>
            </a:r>
            <a:r>
              <a:rPr b="0" lang="ja-JP" sz="44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s use ofCrooke</a:t>
            </a:r>
            <a:r>
              <a:rPr b="0" lang="ja-JP" sz="44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s Experimen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847520"/>
            <a:ext cx="8686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70 - When the battery was connected, the glass tube suddenly lit up with a greenish-colored glow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oss-shaped object was getting in the way of the beam and blocking i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son used this tube and added a magnet. The beam was bent in the direction of the magnet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fferent elements are made of different ato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1028" descr="Dalton_atomic_model"/>
          <p:cNvPicPr/>
          <p:nvPr/>
        </p:nvPicPr>
        <p:blipFill>
          <a:blip r:embed="rId1"/>
          <a:stretch/>
        </p:blipFill>
        <p:spPr>
          <a:xfrm>
            <a:off x="3657600" y="30481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Title 1"/>
          <p:cNvSpPr/>
          <p:nvPr/>
        </p:nvSpPr>
        <p:spPr>
          <a:xfrm>
            <a:off x="1371600" y="3048120"/>
            <a:ext cx="228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Calibri"/>
              </a:rPr>
              <a:t>Dalton</a:t>
            </a:r>
            <a:r>
              <a:rPr b="0" lang="ja-JP" sz="24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323232"/>
                </a:solidFill>
                <a:latin typeface="Calibri"/>
              </a:rPr>
              <a:t>s Model of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alton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theory was tested by William Crookes and his cathode-ray tube experim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581280" y="3160800"/>
            <a:ext cx="43434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4"/>
          <p:cNvSpPr/>
          <p:nvPr/>
        </p:nvSpPr>
        <p:spPr>
          <a:xfrm>
            <a:off x="457200" y="1295280"/>
            <a:ext cx="80931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adow showed Crookes that something was traveling in a straight line from the cathode (-) to the anode (+), similar to the beam of a flash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ross-shaped object was getting in the way of the beam and blocking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im10"/>
          <p:cNvPicPr/>
          <p:nvPr/>
        </p:nvPicPr>
        <p:blipFill>
          <a:blip r:embed="rId1"/>
          <a:stretch/>
        </p:blipFill>
        <p:spPr>
          <a:xfrm>
            <a:off x="5257800" y="4307040"/>
            <a:ext cx="3505320" cy="228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077"/>
          <p:cNvSpPr/>
          <p:nvPr/>
        </p:nvSpPr>
        <p:spPr>
          <a:xfrm>
            <a:off x="457200" y="4307040"/>
            <a:ext cx="4800600" cy="26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okes hypothesized that the green glow in the tube was caused by rays, or streams of p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026"/>
          <p:cNvSpPr/>
          <p:nvPr/>
        </p:nvSpPr>
        <p:spPr>
          <a:xfrm>
            <a:off x="609480" y="1371600"/>
            <a:ext cx="784872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cientists were not convinced that the cathode rays were streams of partic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897, J.J. Thomson, an English physicist, tried to clear up the con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placed a magnet beside the tube from Crooke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experiments. The beam is bent in the direction of the magn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cannot be bent by a magnet, so the beam must be made up of charged particles of matter that came from the catho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312372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758880" indent="-42696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omson revised Dalton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model to include a sphere with a positive charge and negatively charged electrons spread evenly within the positive charg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58880" indent="-42696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negatively charged electrons and the positive charge in the sphere neutralized each other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58880" indent="-42696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228600" y="1600200"/>
            <a:ext cx="82296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J.J Thomson discovered negatively charged particles,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, which are a part of every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990720" y="77616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omson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thompson_atomic_model"/>
          <p:cNvPicPr/>
          <p:nvPr/>
        </p:nvPicPr>
        <p:blipFill>
          <a:blip r:embed="rId1"/>
          <a:stretch/>
        </p:blipFill>
        <p:spPr>
          <a:xfrm>
            <a:off x="2629080" y="19051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76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arnest Rutherford tested Thomson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model, which was found to be an inaccurate model of the ato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-473040"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n atomic model with a nucleus was develop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40960" indent="-47304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ositively charged proton is located in a very small space at the center of an ato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40960" indent="-47304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21:43:58Z</dcterms:created>
  <dc:creator>Denice Fogel</dc:creator>
  <dc:description/>
  <dc:language>en-US</dc:language>
  <cp:lastModifiedBy>St. Aloysius</cp:lastModifiedBy>
  <cp:lastPrinted>2011-03-24T03:42:03Z</cp:lastPrinted>
  <dcterms:modified xsi:type="dcterms:W3CDTF">2012-10-03T19:12:40Z</dcterms:modified>
  <cp:revision>75</cp:revision>
  <dc:subject/>
  <dc:title>Inside the Atom</dc:title>
</cp:coreProperties>
</file>